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66E-F49F-420F-B57B-0E866B47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526-1676-4C5E-B6F7-D4409915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05E-5E32-4EAF-821F-5FD7B765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A43-B010-41D7-9654-EB547383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BAF9-123C-4FE6-BEB8-D302CFDF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914-7601-4F9B-8B44-11600DED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9B7-4F24-4396-A037-4F22557C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4FC-597B-461E-94FF-3AB99FAF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67D-73EE-45EF-B70C-F835679C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B13-21A3-4E6E-8CF7-BAA98575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916-9E3F-4231-A2F1-B10E23C5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378-E0A6-4AC5-B841-389B6E19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257A-A712-4062-A0A7-8B5C9383E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rded Drag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ad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topic is bearded Dragons. Beardies are common pets and are very doc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L"/>
          <p:cNvPicPr/>
          <p:nvPr/>
        </p:nvPicPr>
        <p:blipFill>
          <a:blip r:embed="rId1"/>
          <a:stretch/>
        </p:blipFill>
        <p:spPr>
          <a:xfrm>
            <a:off x="5105520" y="17524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About Bearded liz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dies originally come from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very cute, but when there mad they can be sc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 should know, I'm one of the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cosmo"/>
          <p:cNvPicPr/>
          <p:nvPr/>
        </p:nvPicPr>
        <p:blipFill>
          <a:blip r:embed="rId1"/>
          <a:stretch/>
        </p:blipFill>
        <p:spPr>
          <a:xfrm>
            <a:off x="5105520" y="1981080"/>
            <a:ext cx="3657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Bearded Dragons 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ded dragons eat veggies such as kale, squash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lso eat bugs (EW!!) such as crickets, wax worms, super worms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MC900154188[1]"/>
          <p:cNvPicPr/>
          <p:nvPr/>
        </p:nvPicPr>
        <p:blipFill>
          <a:blip r:embed="rId1"/>
          <a:stretch/>
        </p:blipFill>
        <p:spPr>
          <a:xfrm>
            <a:off x="5402160" y="1828800"/>
            <a:ext cx="2675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ology of 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rded dragon feces is the size of chihuahua p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he white stuff? That's 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ate is  their p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 mushy 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4" descr=""/>
          <p:cNvPicPr/>
          <p:nvPr/>
        </p:nvPicPr>
        <p:blipFill>
          <a:blip r:embed="rId1"/>
          <a:srcRect l="48051" t="32052" r="29310" b="37359"/>
          <a:stretch/>
        </p:blipFill>
        <p:spPr>
          <a:xfrm>
            <a:off x="5105520" y="2133720"/>
            <a:ext cx="3306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 of Bearded lizards!!!(which are awsome!!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tangle 3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181296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295280" y="152388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553080" y="1676520"/>
            <a:ext cx="1600200" cy="1330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7086600" y="4724280"/>
            <a:ext cx="163836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bearded dragon typed this 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58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30T18:58:25Z</dcterms:modified>
  <cp:revision>22</cp:revision>
  <dc:subject/>
  <dc:title>Bearded Dragon’s</dc:title>
</cp:coreProperties>
</file>